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728-2279-4415-8B5A-B2AF4FCD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11F-D039-439D-BD4D-F68F24DD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0ED-B91D-4662-953F-8C7D0B60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561-5592-4CF4-8D1B-0E989E4D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15BF-DED0-4B02-968E-6A366C3B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F2F3-E533-4C15-A01D-4956AF2D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76CD-7008-40F2-B310-AA927795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D9D6-DDA1-4596-BDAD-90FEEB8E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D58E-21C9-4977-A601-FB0D04D2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E5A8-2E42-4902-ACCA-D89B1E82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29B0-5779-4309-AA2E-887367B2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4B7-8D03-410E-9CFF-02A5492B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4645-1A7A-42B0-97B0-8A2E0E48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D443-D13E-4BAB-9CB2-FC65A881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4C0D-2025-4E85-B3A3-A15E5437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5314-09A9-4350-83BF-20445313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A23B-D5F5-4571-A483-6CA1ADB2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7E13E-2E54-4832-9369-5563A11C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12267-A820-4090-91D1-74CAD206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E7213-33A2-46D3-A70B-91DC2C1D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85008-E599-4198-909C-A2C6F2DF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A6CA-6ADA-43C7-928C-F8948AD7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3C2-A9FA-4251-84C2-EE7FDBD5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C259-6681-4137-9311-5911475D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04D7-E4D1-4B1F-8E52-B818DA05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FB70-EA11-4924-9196-11AE16B5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7C72A-E84D-43A7-BE12-10FD59C1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68337-BCFA-428F-B6BA-1802C3F1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CC7B-D66E-4A22-97D4-AB609C00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B6F05-B640-45DA-99EC-4358A629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29D4-9533-4F79-91C0-EA6987F8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68D8-FC9D-4A37-8E65-275D1D42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2DEDB-D936-419E-BFBA-5E7D4A9C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4185-18E6-423B-B5D8-3136E4F4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8CE44-DD28-4A7A-B743-5B1EA8B2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EE9EC-5DE8-4519-A922-BF544F85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D35AE-C4DE-47D7-9996-14D1B8ED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F3FA-C8B8-4CA6-AE0F-B8F24E4D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6D559-8FE2-4EBF-89EB-B5F1D892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1EC7F-2BF2-4659-9173-6F88A90A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CF0B2-0B8B-4B40-A202-49B8CB0C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6D14A-3EC5-4D82-8C3E-112410B3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BDD58-247C-4DB7-A262-F5751135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38C-3655-403C-B4A2-39BF5017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2AF-FD4B-4473-9B9F-CC17641F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1B9-B275-4B50-ACA9-349C1FE2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2B3D-6F3A-4E89-94EB-6B216A7F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C9E-EE59-452F-AAB3-F3721BA4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C578-BBEC-4E9A-A58F-988C236FBB9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2F42-7D7C-4135-A261-1957C1A1024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DCC8-8FEB-4928-8C74-64F8F42823C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A3FC-0953-48B7-997F-7900EA736AA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19–2021 годы</a:t>
            </a:r>
            <a:br>
              <a:rPr sz="5400"/>
            </a:b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уточненный на 31 декабря</a:t>
            </a: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)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C766-6422-45BC-B6FD-2A567B4CE71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66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088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1573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669 1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 4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 9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99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9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3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7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5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497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3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8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11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9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55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6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7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7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4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65932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шение квалификации и переподготовка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9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социальной и инженерной инфраструктуре в сельских населенных пунктах в рамках проекта «Ауыл-Ел бесігі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8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05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2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3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19-12-12T09:26:00Z</cp:lastPrinted>
  <dcterms:modified xsi:type="dcterms:W3CDTF">2019-12-12T09:26:08Z</dcterms:modified>
  <cp:revision>7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