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ED4D-E4D1-48E3-A704-BE9A44F5F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C0CC-1D00-4F24-8E02-9DF923B8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1CAD-9696-40CF-8932-B01851EF1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4F05-66A0-4915-A737-EB8756BDE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0548-E91F-4163-A71D-321729CEB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BF7D-A22F-4329-BCF7-FDF90362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C050-DBAF-4A4F-8560-5FE0F07B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292C-BDFE-436D-A599-1DEB7359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B468-1351-4A6F-A080-C950D776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8A51C-402D-4D1B-B95B-F1BDACDD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5D37-89F8-460E-A0CB-1A2D357F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2CE9-6272-44DD-B7C6-D5E85F01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BB61-DD6B-4AFD-B7D8-F144BB32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3AF3-B79B-4371-8FF7-87A9C5A2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02B2-6BC2-4094-B9C7-CEDA0AE2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F1FD-4006-4A0B-959A-61321D18D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F8E3-5781-4632-9FAD-00F4C0CA3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ED986-1BF2-4CCC-82F2-CC4D22A74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FF9AF-CABA-408C-BC9D-BC46EB01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2FAE3-8B8D-41EC-AA41-5060CD0A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F236E-7F92-4AF6-BA39-5C163B6E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DF01C-52C2-4FDA-A10D-4D7FB352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FE8D-5A12-4E41-9941-D5B117A5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58693-82E9-4716-8B93-237EC651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45F6C-5250-44D5-8BCC-2240631B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2D808-7965-4E2F-A8FB-95844504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6390A-2B19-4426-BD6A-4A1442A6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CE686-83BF-4C3E-8FA6-D367C1A2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B44CE-B940-4BD6-B42A-A20878291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3C95A-4C4E-403D-8421-53355E7A3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F8843-0392-45C3-8888-071CDF91E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14C1A-09C3-44E6-93A9-456DC9E2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82E8B-33C5-4D7C-A626-9749D356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DC74-F428-40EA-8565-22212DFC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38A6D-6FF1-4F91-B854-6D7DBB30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20932-5D34-4F90-85B5-D8129BAD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B3EDE-87A0-4803-B92A-E7EB0175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670DF-6977-4B85-8C4A-00D69DBB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FDD87-3FD4-4200-870D-C0E5D021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3789A-B42F-4899-BE47-93A88FB4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44A34-FC8F-442D-997B-08A888A8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222BC-1B3E-4E94-918B-1164A5632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89BAC-AE39-4A5E-BF73-502E69207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28B7-F24D-4F22-93CA-C54C26A5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E471-FA32-4DBD-A34B-F8AF14DA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7557-813F-44CA-9526-CC6E6A73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02F3-63D2-4403-A0EF-96974734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085F-7A76-4110-8651-0D8843D0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ACC8-EA47-4029-8E85-1A6D691829C5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6AFB-5816-4BE6-97DF-6D4C830D76D0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AF5A-5E08-41B7-8565-126DD8BE92AE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3D14-FB15-4145-9C74-22141C006494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159984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Trebuchet MS"/>
              </a:rPr>
              <a:t>ГРАЖДАНСКИЙ БЮДЖЕТ </a:t>
            </a:r>
            <a:br>
              <a:rPr sz="5400"/>
            </a:br>
            <a:r>
              <a:rPr b="1" lang="ru-RU" sz="5400" spc="-1" strike="noStrike">
                <a:solidFill>
                  <a:srgbClr val="0000cc"/>
                </a:solidFill>
                <a:latin typeface="Trebuchet MS"/>
              </a:rPr>
              <a:t>на 2020–2022 годы</a:t>
            </a:r>
            <a:br>
              <a:rPr sz="5400"/>
            </a:br>
            <a:endParaRPr b="1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Рисунок 6" descr="logoМЭРТ.gif"/>
          <p:cNvPicPr/>
          <p:nvPr/>
        </p:nvPicPr>
        <p:blipFill>
          <a:blip r:embed="rId1"/>
          <a:stretch/>
        </p:blipFill>
        <p:spPr>
          <a:xfrm>
            <a:off x="7315200" y="298440"/>
            <a:ext cx="1609560" cy="10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омер слайда 5"/>
          <p:cNvSpPr/>
          <p:nvPr/>
        </p:nvSpPr>
        <p:spPr>
          <a:xfrm>
            <a:off x="4191120" y="6605640"/>
            <a:ext cx="1828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00EB-18B6-4DCB-97E9-82D7D4543904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448080" y="123840"/>
            <a:ext cx="5315040" cy="110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Trebuchet MS"/>
              </a:rPr>
              <a:t>Расходы на реализацию мероприятий</a:t>
            </a:r>
            <a:br>
              <a:rPr sz="2200"/>
            </a:br>
            <a:r>
              <a:rPr b="1" lang="ru-RU" sz="2200" spc="-1" strike="noStrike">
                <a:solidFill>
                  <a:srgbClr val="0033cc"/>
                </a:solidFill>
                <a:latin typeface="Trebuchet MS"/>
              </a:rPr>
              <a:t> в сфере здравоохранения</a:t>
            </a:r>
            <a:endParaRPr b="1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28600" y="1676520"/>
          <a:ext cx="8763120" cy="3886200"/>
        </p:xfrm>
        <a:graphic>
          <a:graphicData uri="http://schemas.openxmlformats.org/drawingml/2006/table">
            <a:tbl>
              <a:tblPr/>
              <a:tblGrid>
                <a:gridCol w="5114880"/>
                <a:gridCol w="1328760"/>
                <a:gridCol w="1187640"/>
                <a:gridCol w="1131840"/>
              </a:tblGrid>
              <a:tr h="264960">
                <a:tc gridSpan="4"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33cc"/>
                          </a:solidFill>
                          <a:latin typeface="Trebuchet MS"/>
                        </a:rPr>
                        <a:t>млн. тенг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6920">
                <a:tc row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0 год  пл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гноз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твержде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2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сходы на здравоохранение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с аппаратом управле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4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4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храна здоровья нас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8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ециализированная медицинская помощ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ругие виды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чие услуги в области здравоохра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7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8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9" name="Picture 76" descr=""/>
          <p:cNvPicPr/>
          <p:nvPr/>
        </p:nvPicPr>
        <p:blipFill>
          <a:blip r:embed="rId1"/>
          <a:stretch/>
        </p:blipFill>
        <p:spPr>
          <a:xfrm>
            <a:off x="0" y="0"/>
            <a:ext cx="1530360" cy="13716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7" descr=""/>
          <p:cNvPicPr/>
          <p:nvPr/>
        </p:nvPicPr>
        <p:blipFill>
          <a:blip r:embed="rId2"/>
          <a:stretch/>
        </p:blipFill>
        <p:spPr>
          <a:xfrm>
            <a:off x="1914480" y="28440"/>
            <a:ext cx="1523880" cy="13431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6"/>
          <p:cNvSpPr/>
          <p:nvPr/>
        </p:nvSpPr>
        <p:spPr>
          <a:xfrm>
            <a:off x="762120" y="6324480"/>
            <a:ext cx="7696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мечание: прогноз на 2021-2022 годы – без учета целевых трансфертов из республиканского бюдже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19080" y="838080"/>
          <a:ext cx="8839080" cy="5280120"/>
        </p:xfrm>
        <a:graphic>
          <a:graphicData uri="http://schemas.openxmlformats.org/drawingml/2006/table">
            <a:tbl>
              <a:tblPr/>
              <a:tblGrid>
                <a:gridCol w="561960"/>
                <a:gridCol w="561960"/>
                <a:gridCol w="3479760"/>
                <a:gridCol w="1505160"/>
                <a:gridCol w="1365120"/>
                <a:gridCol w="1365120"/>
              </a:tblGrid>
              <a:tr h="22860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0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1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2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правление здравоохранения обла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440 88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001 36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148 86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слуги по реализации государственной политики на местном уровне в области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243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500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22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слуги по охране материнства и дет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672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59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340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паганда здорового образа жи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86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ализация мероприятий по профилактике и борьбе со СПИД в Республике Казахста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688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2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6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еспечение граждан бесплатным или льготным проездом за пределы населенного пункта на леч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4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4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8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формационно-аналитические услуги в области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68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92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1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ентрализованный закуп и хранение вакцин и других медицинских иммунобиологических препаратов для проведения иммунопрофилактики насе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903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2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181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ластные базы спецмедснабж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23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34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84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питальные расходы медицинских организаций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830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7243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404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полнительное обеспечение гарантированного объема бесплатной медицинской помощи по решению местных представительных органов облас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754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257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7798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ведение медицинской организацией мероприятий, снижающих половое влечение, осуществляемые на основании решения су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готовка специалистов в организациях технического и профессионального, послесреднего 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941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953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060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3" name="Заголовок 2" descr=""/>
          <p:cNvPicPr/>
          <p:nvPr/>
        </p:nvPicPr>
        <p:blipFill>
          <a:blip r:embed="rId1"/>
          <a:stretch/>
        </p:blipFill>
        <p:spPr>
          <a:xfrm>
            <a:off x="384120" y="158760"/>
            <a:ext cx="8326440" cy="86508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1"/>
          <p:cNvSpPr/>
          <p:nvPr/>
        </p:nvSpPr>
        <p:spPr>
          <a:xfrm>
            <a:off x="457200" y="6100920"/>
            <a:ext cx="830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мечание: прогноз на 2021-2022 годы – без учета целевых трансфертов из республиканского бюдже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76320" y="838080"/>
          <a:ext cx="8781840" cy="2333880"/>
        </p:xfrm>
        <a:graphic>
          <a:graphicData uri="http://schemas.openxmlformats.org/drawingml/2006/table">
            <a:tbl>
              <a:tblPr/>
              <a:tblGrid>
                <a:gridCol w="504720"/>
                <a:gridCol w="561960"/>
                <a:gridCol w="3479760"/>
                <a:gridCol w="1505160"/>
                <a:gridCol w="1365120"/>
                <a:gridCol w="1365120"/>
              </a:tblGrid>
              <a:tr h="22860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0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1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2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озмещение лизинговых платежей по санитарному транспорту, приобретенных на условиях финансового лизинг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958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готовка специалистов с высшим, послевузовским образованием и оказание социальной поддержки обучающимс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541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193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770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полнение государственных обязательств по проектам государственно-частного партнер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9802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411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56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6" name="Заголовок 2" descr=""/>
          <p:cNvPicPr/>
          <p:nvPr/>
        </p:nvPicPr>
        <p:blipFill>
          <a:blip r:embed="rId1"/>
          <a:stretch/>
        </p:blipFill>
        <p:spPr>
          <a:xfrm>
            <a:off x="384120" y="195120"/>
            <a:ext cx="8229600" cy="64620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1"/>
          <p:cNvSpPr/>
          <p:nvPr/>
        </p:nvSpPr>
        <p:spPr>
          <a:xfrm>
            <a:off x="457200" y="6100920"/>
            <a:ext cx="830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мечание: прогноз на 2020-2021 годы – без учета целевых трансфертов из республиканского бюдже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Таблица 3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68680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ьфия Ф. Садыкова</dc:creator>
  <dc:description/>
  <dc:language>en-US</dc:language>
  <cp:lastModifiedBy>Kapkenova</cp:lastModifiedBy>
  <cp:lastPrinted>2020-01-10T05:12:58Z</cp:lastPrinted>
  <dcterms:modified xsi:type="dcterms:W3CDTF">2020-01-10T05:13:04Z</dcterms:modified>
  <cp:revision>7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